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0.jpeg" ContentType="image/jpeg"/>
  <Override PartName="/ppt/media/image40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99A-6FDD-4419-952A-9EE50677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E97-71A8-4999-A0B5-C2409A4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F34-4211-48F9-B4AE-1A6BECF2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21E-23CC-418A-9404-B9FFEF73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21C-CE1A-4BA3-9103-605182F8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6BE-AE50-46F7-8C3A-747A8F8E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C8E-01FB-458B-812C-F4457482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7AF-3A52-4BFF-9B35-DF20EBBA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2F8-B96B-4C7F-AC1F-B78C5CC3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D38-2818-4674-9E26-89F8D05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836-4B30-4932-BAB8-3D90883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339-79D2-4FF8-983D-01AF5EB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119-9B77-4A29-B753-DBA2F735F42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User\Desktop\Безымянный1.png"/>
          <p:cNvPicPr/>
          <p:nvPr/>
        </p:nvPicPr>
        <p:blipFill>
          <a:blip r:embed="rId1"/>
          <a:srcRect l="0" t="0" r="69345" b="54436"/>
          <a:stretch/>
        </p:blipFill>
        <p:spPr>
          <a:xfrm>
            <a:off x="49320" y="1440"/>
            <a:ext cx="922176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5292720" y="2565360"/>
            <a:ext cx="3313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7704f"/>
                </a:solidFill>
                <a:latin typeface="Times New Roman"/>
                <a:ea typeface="Times New Roman"/>
              </a:rPr>
              <a:t>«Своя игра» 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2328840" y="334800"/>
            <a:ext cx="6742080" cy="269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4638600" y="5370480"/>
            <a:ext cx="3170160" cy="981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5230800" y="3436920"/>
            <a:ext cx="343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704f"/>
                </a:solidFill>
                <a:latin typeface="Monotype Corsiva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704f"/>
                </a:solidFill>
                <a:latin typeface="Monotype Corsiva"/>
              </a:rPr>
              <a:t>классный руководитель 5«Г»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704f"/>
                </a:solidFill>
                <a:latin typeface="Monotype Corsiva"/>
              </a:rPr>
              <a:t>Рыбальченко Екатерина Юрь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3936960" y="291960"/>
            <a:ext cx="46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704f"/>
                </a:solidFill>
                <a:latin typeface="Monotype Corsiva"/>
              </a:rPr>
              <a:t>Чувашская Республика            МБОУ «Гимназия 4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2320" y="9360"/>
            <a:ext cx="912168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395280" y="260280"/>
            <a:ext cx="856944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4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Это растение растет вдоль дорог. Отсюда и его название. Оно не боится вытаптывания, потому что надежно укрепилось своим пучком корней, прижало к земле свои листья. Цветки у него невзрачные и крошечные, но каждое растение дает 60 тыс. семян, которые приклеиваются к ступням и разносятся по всему свету. Так оказалось оно вместе с европейцами и в Америке. Индейцы дали ему название «след бледнолицых». Назовите это растение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4530960" y="595800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(Подорожник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74680" y="5315040"/>
            <a:ext cx="2004840" cy="263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1278000" y="1197000"/>
            <a:ext cx="55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7000" y="34920"/>
            <a:ext cx="9129600" cy="6823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468360" y="404640"/>
            <a:ext cx="84247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30 баллов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Птицы и насекомые, звери и люди издавна обходят жгучую красавицу стороной. Больно обжигает она того, кто хоть чуть-чуть прикоснулся к ней. Ведь на листьях и стеблях есть стрекательные волоски. Каждый волосок - маленький шприц, наполненный жгучей жидкостью. Вы узнали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4487040" y="566100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Verdana"/>
              </a:rPr>
              <a:t>(Крапива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74680" y="5284800"/>
            <a:ext cx="2004840" cy="262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5191200" cy="388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5"/>
          <a:stretch/>
        </p:blipFill>
        <p:spPr>
          <a:xfrm>
            <a:off x="5610240" y="1628640"/>
            <a:ext cx="3162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0615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395280" y="189000"/>
            <a:ext cx="82803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2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Это растение относится к числу старейших лекарственных средств. Целебные свойства растения были хорошо известны врачам уже при Петре I. Растет на болотах, лугах, по берегам рек и ручьев, в зарослях кустарников, лесах, на опушках. Одно из ее основных лечебных свойств - успокаивающее действие на нервную систему. Помогает она и при болезнях сердца. В аптеках продается и в виде настойки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4756680" y="537048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(Валериан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15040"/>
            <a:ext cx="2006640" cy="26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4211640" y="98100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611280" y="1249200"/>
            <a:ext cx="32115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34920" y="1440"/>
            <a:ext cx="90774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755640" y="549360"/>
            <a:ext cx="7704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10  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Растение одна сторона которого теплая, нежная, вторая холодная, оно может излечить нас от кашля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4068360" y="475128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/Мать -и- Мачеха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2764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4"/>
          <a:stretch/>
        </p:blipFill>
        <p:spPr>
          <a:xfrm>
            <a:off x="971640" y="1662120"/>
            <a:ext cx="3706560" cy="277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5"/>
          <a:stretch/>
        </p:blipFill>
        <p:spPr>
          <a:xfrm>
            <a:off x="5003640" y="1413000"/>
            <a:ext cx="338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7640" y="0"/>
            <a:ext cx="9078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1000080" y="4046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5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714680" y="1857240"/>
            <a:ext cx="5643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Какое художественное произведение о кошках может служить рекламой страхования жилищ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2871000" y="435600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. Маршак «Кошкин до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68200" y="5327640"/>
            <a:ext cx="2005200" cy="262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User\Desktop\1503317700.67.jpg"/>
          <p:cNvPicPr/>
          <p:nvPr/>
        </p:nvPicPr>
        <p:blipFill>
          <a:blip r:embed="rId3"/>
          <a:stretch/>
        </p:blipFill>
        <p:spPr>
          <a:xfrm>
            <a:off x="2208240" y="43164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1160" y="36360"/>
            <a:ext cx="9132840" cy="68216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755640" y="404640"/>
            <a:ext cx="7993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4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Verdana"/>
              </a:rPr>
              <a:t>Какое речное животное пропагандировал Дуремар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3898440" y="500364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дицинскую пияв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315040"/>
            <a:ext cx="2006640" cy="263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User\Desktop\Без названия.jpg"/>
          <p:cNvPicPr/>
          <p:nvPr/>
        </p:nvPicPr>
        <p:blipFill>
          <a:blip r:embed="rId3"/>
          <a:stretch/>
        </p:blipFill>
        <p:spPr>
          <a:xfrm>
            <a:off x="809640" y="1674720"/>
            <a:ext cx="4402080" cy="247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User\Desktop\images (1).jpg"/>
          <p:cNvPicPr/>
          <p:nvPr/>
        </p:nvPicPr>
        <p:blipFill>
          <a:blip r:embed="rId4"/>
          <a:stretch/>
        </p:blipFill>
        <p:spPr>
          <a:xfrm>
            <a:off x="5508720" y="177336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30240" y="34920"/>
            <a:ext cx="9129600" cy="6823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"/>
          <p:cNvSpPr/>
          <p:nvPr/>
        </p:nvSpPr>
        <p:spPr>
          <a:xfrm>
            <a:off x="684360" y="620640"/>
            <a:ext cx="69199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30 балло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Какое растение способно исполнять желания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2843280" y="472428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ик-семицветик из рассказа В. Ката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28480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User\Desktop\images (2).jpg"/>
          <p:cNvPicPr/>
          <p:nvPr/>
        </p:nvPicPr>
        <p:blipFill>
          <a:blip r:embed="rId3"/>
          <a:stretch/>
        </p:blipFill>
        <p:spPr>
          <a:xfrm>
            <a:off x="4500720" y="765000"/>
            <a:ext cx="4265280" cy="259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User\Desktop\Без названия (2).jpg"/>
          <p:cNvPicPr/>
          <p:nvPr/>
        </p:nvPicPr>
        <p:blipFill>
          <a:blip r:embed="rId4"/>
          <a:stretch/>
        </p:blipFill>
        <p:spPr>
          <a:xfrm>
            <a:off x="684360" y="1409760"/>
            <a:ext cx="36003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498600" y="260280"/>
            <a:ext cx="82087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2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Verdana"/>
              </a:rPr>
              <a:t>Какие насекомые не захотели поделиться с Винни-Пухом своим продуктом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185360" y="515772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че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35788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User\Desktop\Без названия (1).jpg"/>
          <p:cNvPicPr/>
          <p:nvPr/>
        </p:nvPicPr>
        <p:blipFill>
          <a:blip r:embed="rId3"/>
          <a:stretch/>
        </p:blipFill>
        <p:spPr>
          <a:xfrm>
            <a:off x="900000" y="1484280"/>
            <a:ext cx="5302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1042920" y="1305000"/>
            <a:ext cx="7201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1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Какой кот постоянно носит очки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3203640" y="492768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т Базилио, А. Толстой «Буратино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27364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User\Desktop\images (3).jpg"/>
          <p:cNvPicPr/>
          <p:nvPr/>
        </p:nvPicPr>
        <p:blipFill>
          <a:blip r:embed="rId3"/>
          <a:stretch/>
        </p:blipFill>
        <p:spPr>
          <a:xfrm>
            <a:off x="5692680" y="620640"/>
            <a:ext cx="2808360" cy="423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User\Desktop\images (4).jpg"/>
          <p:cNvPicPr/>
          <p:nvPr/>
        </p:nvPicPr>
        <p:blipFill>
          <a:blip r:embed="rId4"/>
          <a:stretch/>
        </p:blipFill>
        <p:spPr>
          <a:xfrm>
            <a:off x="1619280" y="2114640"/>
            <a:ext cx="36417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20520"/>
            <a:ext cx="9093240" cy="68374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826920" y="836640"/>
            <a:ext cx="727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10 до 49 баллов. Возьмите красный кружок.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ы, наверное, любите природу. Но вы так мало о ней знаете…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ам нужно много изучать и узнавать. А пока мы можем порадоваться за прир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50 до 99 баллов. Возьмите желтый кружок.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ы много знаете о природе, и хотели бы ей помочь. Но ваши знания неполные. Вы сами того не желая, можете причинить ей вред. Больше читайте, говорите со знающими людьми. Будьте осторожны и внимательны. Не причиняйте природе вре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100 до 450 баллов. Возьмите зеленый кружок.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Если бы все были такими, как вы, то не страдали бы наши леса и реки от неумелого вмешательства. Вы не только знаете много о природе, но и умеете её охранять. Молодцы, не останавливайтесь, идите дальш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583240"/>
            <a:ext cx="1792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2600" y="27000"/>
            <a:ext cx="9139320" cy="6831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воя игра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836640"/>
          <a:ext cx="8604000" cy="5759280"/>
        </p:xfrm>
        <a:graphic>
          <a:graphicData uri="http://schemas.openxmlformats.org/drawingml/2006/table">
            <a:tbl>
              <a:tblPr/>
              <a:tblGrid>
                <a:gridCol w="2709720"/>
                <a:gridCol w="955800"/>
                <a:gridCol w="1307880"/>
                <a:gridCol w="1379520"/>
                <a:gridCol w="1235160"/>
                <a:gridCol w="1015920"/>
              </a:tblGrid>
              <a:tr h="198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«Экологическая размин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88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"Узнай это растение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888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"Знатоки природы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33" descr="C:\Users\User\Desktop\images (1).jpg"/>
          <p:cNvPicPr/>
          <p:nvPr/>
        </p:nvPicPr>
        <p:blipFill>
          <a:blip r:embed="rId17"/>
          <a:stretch/>
        </p:blipFill>
        <p:spPr>
          <a:xfrm>
            <a:off x="1262160" y="3700440"/>
            <a:ext cx="79200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C:\Users\User\Desktop\2.jpg"/>
          <p:cNvPicPr/>
          <p:nvPr/>
        </p:nvPicPr>
        <p:blipFill>
          <a:blip r:embed="rId18"/>
          <a:stretch/>
        </p:blipFill>
        <p:spPr>
          <a:xfrm>
            <a:off x="871560" y="1914480"/>
            <a:ext cx="137808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C:\Users\User\Desktop\images.jpg"/>
          <p:cNvPicPr/>
          <p:nvPr/>
        </p:nvPicPr>
        <p:blipFill>
          <a:blip r:embed="rId19"/>
          <a:stretch/>
        </p:blipFill>
        <p:spPr>
          <a:xfrm>
            <a:off x="1074600" y="5487840"/>
            <a:ext cx="89712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611280" y="1041480"/>
          <a:ext cx="7993080" cy="4116240"/>
        </p:xfrm>
        <a:graphic>
          <a:graphicData uri="http://schemas.openxmlformats.org/drawingml/2006/table">
            <a:tbl>
              <a:tblPr/>
              <a:tblGrid>
                <a:gridCol w="2520720"/>
                <a:gridCol w="1871640"/>
                <a:gridCol w="1440000"/>
                <a:gridCol w="1368360"/>
                <a:gridCol w="792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«Экологическая 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"Узнай это растени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"Знатоки природы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0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273640"/>
            <a:ext cx="2006640" cy="2627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900000" y="476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РШРУТНЫЙ ЛИ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2600" y="-9360"/>
            <a:ext cx="9132840" cy="686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85840" y="357120"/>
            <a:ext cx="85010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Знатоки природы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еперь - викторина по литературным произведениям и мультфильмам. Ее герои - животные и раст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ое художественное произведение о кошках может служить рекламой страхования жилища? (С. Маршак «Кошкин дом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ой кот постоянно носит очки? (Кот Базилио, А. Толстой «Буратин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4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ое речное животное пропагандировал Дуремар? (Медицинскую пиявку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ие насекомые не захотели поделиться с Винни-Пухом своим продуктом? (Пчел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30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кое растение способно исполнять желания? (Цветик-семицветик из рассказа В. Катаев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357880"/>
            <a:ext cx="2006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8440" y="17640"/>
            <a:ext cx="9056880" cy="6840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7"/>
          <p:cNvSpPr/>
          <p:nvPr/>
        </p:nvSpPr>
        <p:spPr>
          <a:xfrm>
            <a:off x="179280" y="189000"/>
            <a:ext cx="842508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Verdana"/>
              </a:rPr>
              <a:t>"Узнай это растение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Очень многие растения, которые нас окружают, мы называем сорняками. А ведь многие из них являются лекарственны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 </a:t>
            </a: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50.Это растение - великан. У него огромные добродушные листья и корзинки плодов с семенами. Плоды имеют шипы-крючочки, с помощью которых цепляются за одежду людей и шерсть животных. Так и расселяются по всей Земле. По подобию таких шипов люди придумали застежку-липучку. А корни этого растения используют в парфюмерии и в медицине. Что это за растение? (Репейник, он же - лопух.) А какие выражения вы знаете, в которых используется название этого растения? («Пристал, как репейник», «Вот лопух!»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40. Это растение растет вдоль дорог. Отсюда и его название. Оно не боится вытаптывания, потому что надежно укрепилось своим пучком корней, прижало к земле свои листья. Цветки у него невзрачные и крошечные, но каждое растение дает 60 тыс. семян, которые приклеиваются к ступням и разносятся по всему свету. Так оказалось оно вместе с европейцами и в Америке. Индейцы дали ему название «след бледнолицых». Назовите это растение. (Подорожник.) Как его используют люди? (Для обработки ран, порезов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30.Птицы и насекомые, звери и люди издавна обходят жгучую красавицу стороной. Больно обжигает она того, кто хоть чуть-чуть прикоснулся к ней. Ведь на листьях и стеблях есть стрекательные волоски. Каждый волосок - маленький шприц, наполненный жгучей жидкостью. Вы узнали? (Крапива.) Правильно, крапива. Как ни странно, есть за что людям благодарить ее. Много вкусных и полезных блюд можно приготовить из молодой крапивы. Ведь в ее листьях находится в 2 раза больше витамина С, чем в черной смородине. Крапива улучшает состав крови, останавливает кровотечение. Одна из бабочек названа в честь своей кормилицы - крапивни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Verdana"/>
              </a:rPr>
              <a:t>20.</a:t>
            </a: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 Это растение относится к числу старейших лекарственных средств. Целебные свойства растения были хорошо известны врачам уже при Петре I. Растет на болотах, лугах, по берегам рек и ручьев, в зарослях кустарников, лесах, на опушках. Одно из ее основных лечебных свойств - успокаивающее действие на нервную систему. Помогает она и при болезнях сердца. В аптеках продается и в виде настойки. (Валериана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10. Растение одна сторона которого теплая, нежная, вторая холодная, оно может излечить нас от кашля? /Мать -и- Мачеха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748480"/>
            <a:ext cx="2006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3640" y="26028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Экологическая размин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10.Почему в жару собака высовывает язык, а лошадь - нет? (У собаки на коже нет потовых желе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20.Лесник весной увидел, что кора деревьев обгрызена зайцами на высоте 1,5 метров от земли. Как это могло произойти? (Зимой в лесу глубокий сне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30.Почему утки, гуси с особенным удовольствием купаются в сильные морозы? (Температура воды даже в сильный мороз не бывает ниже +3 градусов, поэтому в воде они греют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40.Почему соловьи осенью улетают на юг, а, например, воробьи – нет? (Воробьи могут зимой добыть пищу, а соловьи питаются насекомы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50.Назовите причины осеннего листопада (Растения избавляются от вредных веществ, защищаются от обезвоживания, избегают поломки ветвей зимой из-за тяжести снег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675400"/>
            <a:ext cx="2006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27000"/>
            <a:ext cx="9110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11280" y="1041480"/>
          <a:ext cx="7993080" cy="4116240"/>
        </p:xfrm>
        <a:graphic>
          <a:graphicData uri="http://schemas.openxmlformats.org/drawingml/2006/table">
            <a:tbl>
              <a:tblPr/>
              <a:tblGrid>
                <a:gridCol w="2520720"/>
                <a:gridCol w="1871640"/>
                <a:gridCol w="1440000"/>
                <a:gridCol w="1368360"/>
                <a:gridCol w="792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«Экологическая 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"Узнай это растени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"Знатоки природы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01600" y="5376960"/>
            <a:ext cx="2005200" cy="2633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900000" y="476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РШРУТНЫЙ ЛИ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6480" y="0"/>
            <a:ext cx="9177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360360" y="549360"/>
            <a:ext cx="849636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50 баллов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Verdana"/>
              </a:rPr>
              <a:t>Назовите причины осеннего листопада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627280" y="386064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тения избавляются от вредных веществ, защищаются от обезвоживания, избегают поломки ветвей зимой из-за тяжести сне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476280" y="5241960"/>
            <a:ext cx="20048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06200" y="907920"/>
            <a:ext cx="8931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40 балло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Verdana"/>
              </a:rPr>
              <a:t>Почему соловьи осенью улетают на юг, а воробьи – нет</a:t>
            </a:r>
            <a:r>
              <a:rPr b="1" i="1" lang="ru-RU" sz="4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2916360" y="4581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робьи могут зимой добыть пищу, а соловьи питаются насекомы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261040"/>
            <a:ext cx="2006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179280" y="333360"/>
            <a:ext cx="86058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30 баллов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Почему утки, гуси с особенным удовольствием купаются в сильные морозы</a:t>
            </a: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2484360" y="422748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оды даже в сильный мороз не бывает ниже +3 градусов, поэтому в воде они грею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15040"/>
            <a:ext cx="2006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3240"/>
            <a:ext cx="9072720" cy="6854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58920" y="333360"/>
            <a:ext cx="8424720" cy="40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20 балло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Verdana"/>
              </a:rPr>
              <a:t>Лесник весной увидел, что кора деревьев обгрызена зайцами на высоте 1,5 метров от земли. Как это могло произойти</a:t>
            </a: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3471840" y="5199120"/>
            <a:ext cx="50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имой в лесу глубокий сне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27640"/>
            <a:ext cx="2006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468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755640" y="981000"/>
            <a:ext cx="74167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1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Почему в жару собака высовывает язык, а лошадь - нет</a:t>
            </a: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2556000" y="479736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собаки на коже нет потовых желе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98440" y="5273640"/>
            <a:ext cx="20066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324000" y="189000"/>
            <a:ext cx="8569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5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Это растение - великан. У него огромные добродушные листья и корзинки плодов с семенами. Плоды имеют шипы-крючочки, с помощью которых цепляются за одежду людей и шерсть животных. Так и расселяются по всей Земле. По подобию таких шипов люди придумали застежку-липучку. А корни этого растения используют в парфюмерии и в медицине. Что это за растение</a:t>
            </a:r>
            <a:r>
              <a:rPr b="1" i="1" lang="ru-RU" sz="54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3786840" y="518796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(Репейник, он же - лопух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68200" y="5315040"/>
            <a:ext cx="2005200" cy="263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User\Desktop\8.jpg"/>
          <p:cNvPicPr/>
          <p:nvPr/>
        </p:nvPicPr>
        <p:blipFill>
          <a:blip r:embed="rId4"/>
          <a:stretch/>
        </p:blipFill>
        <p:spPr>
          <a:xfrm>
            <a:off x="324000" y="404640"/>
            <a:ext cx="6840360" cy="477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5"/>
          <a:stretch/>
        </p:blipFill>
        <p:spPr>
          <a:xfrm>
            <a:off x="5775480" y="1125360"/>
            <a:ext cx="30445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9:21:12Z</dcterms:created>
  <dc:creator>Guest</dc:creator>
  <dc:description/>
  <dc:language>en-US</dc:language>
  <cp:lastModifiedBy>User</cp:lastModifiedBy>
  <cp:lastPrinted>2019-08-31T18:56:10Z</cp:lastPrinted>
  <dcterms:modified xsi:type="dcterms:W3CDTF">2019-10-17T21:36:21Z</dcterms:modified>
  <cp:revision>44</cp:revision>
  <dc:subject/>
  <dc:title>Слайд 1</dc:title>
</cp:coreProperties>
</file>